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80AF-A411-46F5-9788-A00C2D9AF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3396-A95C-4AC7-97B6-B2ED7EAF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A567-708C-4710-A800-EB4CB6151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602F-D359-431B-ABC4-87F09464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035B-D63B-4567-A516-2397D487F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0EA3-0C2B-48DB-A2E2-45B16865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0802-CADD-495C-928D-9E5F2284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FD74-CE4A-4DC7-8205-97F36480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C5FE-A307-4266-AC2D-3CCA56CE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D870-F1A2-4DDE-8E08-BF4CEE91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5FB6-6F1A-4727-BCAB-98260CEB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DB8B-3A64-413F-9B59-41C0BEF5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7CCF-5E48-4AE7-BF73-DE29E6E7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6089-F15B-4F37-8480-449BF71C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B264-23FE-4D64-B6B7-539D59F7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E4EB-1C2B-4566-8C5A-BABFF8E50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BC77-5C12-4803-9650-17C5B83EB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A1D4-0AB0-4157-9722-AD5D9223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3702-7658-43EF-A820-2F655811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3B95-3B29-4DF7-A949-EB4B2554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960F-B884-4829-A20F-0DD549A4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2725-E588-4F09-9DDF-22B83F03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9731-6F7E-4609-A8DD-3C4E184D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527B-F9C2-4531-B6C2-68E43DE9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EF33-ED38-4B0B-B848-2A289785A02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03FB-EA09-4550-850B-CEDE2C3BE00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de.trinixy.ru/pics2/20071026/child_02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993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Дети- наше будущее!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Детским домам нужна ваша помощь!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99640" y="2276640"/>
            <a:ext cx="755964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Картинка 55 из 590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205000"/>
            <a:ext cx="2363760" cy="2376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Картинка 26 из 59059"/>
          <p:cNvPicPr/>
          <p:nvPr/>
        </p:nvPicPr>
        <p:blipFill>
          <a:blip r:embed="rId3"/>
          <a:stretch/>
        </p:blipFill>
        <p:spPr>
          <a:xfrm>
            <a:off x="5796000" y="4437000"/>
            <a:ext cx="3348000" cy="2230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Картинка 22 из 59059"/>
          <p:cNvPicPr/>
          <p:nvPr/>
        </p:nvPicPr>
        <p:blipFill>
          <a:blip r:embed="rId4"/>
          <a:stretch/>
        </p:blipFill>
        <p:spPr>
          <a:xfrm>
            <a:off x="1547640" y="4614840"/>
            <a:ext cx="2989440" cy="2243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Картинка 31 из 59059"/>
          <p:cNvPicPr/>
          <p:nvPr/>
        </p:nvPicPr>
        <p:blipFill>
          <a:blip r:embed="rId5"/>
          <a:stretch/>
        </p:blipFill>
        <p:spPr>
          <a:xfrm>
            <a:off x="2987640" y="2781360"/>
            <a:ext cx="2629080" cy="1751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Картинка 60 из 59059"/>
          <p:cNvPicPr/>
          <p:nvPr/>
        </p:nvPicPr>
        <p:blipFill>
          <a:blip r:embed="rId6"/>
          <a:stretch/>
        </p:blipFill>
        <p:spPr>
          <a:xfrm>
            <a:off x="6227640" y="2276640"/>
            <a:ext cx="2916360" cy="19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18:20:28Z</dcterms:created>
  <dc:creator>qq</dc:creator>
  <dc:description/>
  <dc:language>en-US</dc:language>
  <cp:lastModifiedBy>qq</cp:lastModifiedBy>
  <dcterms:modified xsi:type="dcterms:W3CDTF">2009-05-10T18:45:27Z</dcterms:modified>
  <cp:revision>2</cp:revision>
  <dc:subject/>
  <dc:title>Дети- наше будущее! Детским домам</dc:title>
</cp:coreProperties>
</file>