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3.gif" ContentType="image/gif"/>
  <Override PartName="/ppt/media/image4.png" ContentType="image/png"/>
  <Override PartName="/ppt/media/image14.jpeg" ContentType="image/jpeg"/>
  <Override PartName="/ppt/media/image30.gif" ContentType="image/gif"/>
  <Override PartName="/ppt/media/image10.gif" ContentType="image/gif"/>
  <Override PartName="/ppt/media/image6.gif" ContentType="image/gif"/>
  <Override PartName="/ppt/media/image31.gif" ContentType="image/gif"/>
  <Override PartName="/ppt/media/image26.jpeg" ContentType="image/jpeg"/>
  <Override PartName="/ppt/media/image16.png" ContentType="image/png"/>
  <Override PartName="/ppt/media/image13.gif" ContentType="image/gif"/>
  <Override PartName="/ppt/media/image8.gif" ContentType="image/gif"/>
  <Override PartName="/ppt/media/image9.gif" ContentType="image/gif"/>
  <Override PartName="/ppt/media/image11.png" ContentType="image/png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7.gif" ContentType="image/gif"/>
  <Override PartName="/ppt/media/image29.jpeg" ContentType="image/jpeg"/>
  <Override PartName="/ppt/media/image1.jpeg" ContentType="image/jpeg"/>
  <Override PartName="/ppt/media/image27.gif" ContentType="image/gif"/>
  <Override PartName="/ppt/media/image15.gif" ContentType="image/gif"/>
  <Override PartName="/ppt/media/image20.png" ContentType="image/png"/>
  <Override PartName="/ppt/media/image24.gif" ContentType="image/gif"/>
  <Override PartName="/ppt/media/image17.png" ContentType="image/png"/>
  <Override PartName="/ppt/media/image18.gif" ContentType="image/gif"/>
  <Override PartName="/ppt/media/image19.png" ContentType="image/png"/>
  <Override PartName="/ppt/media/image21.png" ContentType="image/png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4A5-B25E-424A-9721-7063E0FF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173-7DD8-41C1-BC3B-D1BA4EE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55A-7462-4ACB-90DC-D2A2292C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F15-792B-48F5-B74E-D3D97F4C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4C29-208B-4DFC-B0E9-2040690C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01AC-40CD-42E9-B7C5-AB1F481F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232B-01EE-4C47-AD36-7D84AA11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204B-8719-4CFB-83B5-D176DCC3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C03-8BE3-4FB2-90DC-34700A8C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345D-2BC7-4F03-B17E-9CAE151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57C4-3F4B-4569-8AC3-BCFA9816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DF5-B6C7-4F77-A057-ED915BD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A46-8C6F-4258-BDFE-E1FF52F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C13-CD0A-409E-98E0-1ED836B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E1E-12FF-4BD7-B9A0-89F670D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D753-AC60-44AD-B296-5FA89A4A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0323-1C90-4D1F-8C7A-18FCDF13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95E5-CC84-411F-9EEC-07FB5619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A7E5-42D1-4FF7-9DD3-14E3590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B9F0-CE54-471C-9EAB-D50433C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DCD1-8A89-49D0-9333-DD84A0B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6F45-D5B4-4031-9F64-1F4A6A6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74C-3F22-4F09-84B4-0924402C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3324-BF8E-49AA-AF98-2426A7E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F191-DC89-48F1-AB33-F0F2EC1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4D41-B556-4C02-8BEC-F9AC3F0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A2CF-5723-41DC-A4BE-F8ECF2C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9FC1-1902-4D31-94EA-224DDA4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75C3-4A2A-43EB-9B8F-4D35432B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1827-CC7D-4791-80AE-F3248CAE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67D-B7D2-4CBA-9349-F24F093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648-0982-45DB-B8E3-B929E56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659-EC17-4DB8-99F5-8E8F5B10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363-C5B8-41E2-9EC4-0E25F29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8DE-B46C-4F56-96C8-3E21FF4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F25-280D-423A-8220-0AE36AC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B04-0B04-4E17-8873-82C76A86A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D930-1F0C-410A-857D-10073A2014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BC2-01BF-4F8B-87F7-B079B8C004B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5.xml"/><Relationship Id="rId7" Type="http://schemas.openxmlformats.org/officeDocument/2006/relationships/slide" Target="slide46.xml"/><Relationship Id="rId8" Type="http://schemas.openxmlformats.org/officeDocument/2006/relationships/slide" Target="slide47.xml"/><Relationship Id="rId9" Type="http://schemas.openxmlformats.org/officeDocument/2006/relationships/slide" Target="slide49.xml"/><Relationship Id="rId10" Type="http://schemas.openxmlformats.org/officeDocument/2006/relationships/slide" Target="slide50.xml"/><Relationship Id="rId11" Type="http://schemas.openxmlformats.org/officeDocument/2006/relationships/slide" Target="slide51.xml"/><Relationship Id="rId12" Type="http://schemas.openxmlformats.org/officeDocument/2006/relationships/slide" Target="slide52.xml"/><Relationship Id="rId13" Type="http://schemas.openxmlformats.org/officeDocument/2006/relationships/slide" Target="slide53.xml"/><Relationship Id="rId14" Type="http://schemas.openxmlformats.org/officeDocument/2006/relationships/slide" Target="slide54.xml"/><Relationship Id="rId15" Type="http://schemas.openxmlformats.org/officeDocument/2006/relationships/slide" Target="slide56.xml"/><Relationship Id="rId16" Type="http://schemas.openxmlformats.org/officeDocument/2006/relationships/slide" Target="slide57.xml"/><Relationship Id="rId17" Type="http://schemas.openxmlformats.org/officeDocument/2006/relationships/slide" Target="slide58.xml"/><Relationship Id="rId1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99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1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1"/>
          <p:cNvSpPr/>
          <p:nvPr/>
        </p:nvSpPr>
        <p:spPr>
          <a:xfrm>
            <a:off x="2556000" y="1268280"/>
            <a:ext cx="63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Monotype Corsiva"/>
              </a:rPr>
              <a:t>Своя игр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43" descr="сова"/>
          <p:cNvPicPr/>
          <p:nvPr/>
        </p:nvPicPr>
        <p:blipFill>
          <a:blip r:embed="rId1"/>
          <a:stretch/>
        </p:blipFill>
        <p:spPr>
          <a:xfrm>
            <a:off x="468360" y="1844640"/>
            <a:ext cx="2135160" cy="302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6"/>
          <p:cNvSpPr/>
          <p:nvPr/>
        </p:nvSpPr>
        <p:spPr>
          <a:xfrm>
            <a:off x="2700360" y="2205000"/>
            <a:ext cx="64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«Здоровье –       единственная драгоценность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49"/>
          <p:cNvSpPr/>
          <p:nvPr/>
        </p:nvSpPr>
        <p:spPr>
          <a:xfrm>
            <a:off x="3564000" y="6381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187280" y="404640"/>
            <a:ext cx="748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Эти растения с характерным резким запахом являются хорошим средством в профилактике простудных заболев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>
            <a:hlinkClick r:id="rId1" action="ppaction://hlinksldjump"/>
          </p:cNvPr>
          <p:cNvSpPr/>
          <p:nvPr/>
        </p:nvSpPr>
        <p:spPr>
          <a:xfrm>
            <a:off x="1792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50920" y="333360"/>
            <a:ext cx="36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940360" y="602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Лук и чес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324000" y="404640"/>
            <a:ext cx="1152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258920" y="105264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>
            <a:hlinkClick r:id="rId2" action="ppaction://hlinksldjump"/>
          </p:cNvPr>
          <p:cNvSpPr/>
          <p:nvPr/>
        </p:nvSpPr>
        <p:spPr>
          <a:xfrm>
            <a:off x="324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3" descr="baby155"/>
          <p:cNvPicPr/>
          <p:nvPr/>
        </p:nvPicPr>
        <p:blipFill>
          <a:blip r:embed="rId3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9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179280" y="476280"/>
            <a:ext cx="50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55640" y="333360"/>
            <a:ext cx="82090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Молодая хозяйка долила выкипевший мясной бульон вод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Правильно ли она поступи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7">
            <a:hlinkClick r:id="rId2" action="ppaction://hlinksldjump"/>
          </p:cNvPr>
          <p:cNvSpPr/>
          <p:nvPr/>
        </p:nvSpPr>
        <p:spPr>
          <a:xfrm>
            <a:off x="25092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2484360" y="5516640"/>
            <a:ext cx="597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.  Бульон доливать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дой не    рекоменду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0920" y="476280"/>
            <a:ext cx="4334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71640" y="692280"/>
            <a:ext cx="78483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кова продолжительность варки картофеля средней величин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863640" cy="64908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8736" h="21600">
                <a:moveTo>
                  <a:pt x="0" y="0"/>
                </a:moveTo>
                <a:lnTo>
                  <a:pt x="28736" y="0"/>
                </a:lnTo>
                <a:lnTo>
                  <a:pt x="28736" y="21600"/>
                </a:lnTo>
                <a:lnTo>
                  <a:pt x="0" y="21600"/>
                </a:lnTo>
                <a:close/>
              </a:path>
              <a:path fill="lightenLess" w="28736" h="21600">
                <a:moveTo>
                  <a:pt x="0" y="0"/>
                </a:moveTo>
                <a:lnTo>
                  <a:pt x="28736" y="0"/>
                </a:lnTo>
                <a:lnTo>
                  <a:pt x="27336" y="1400"/>
                </a:lnTo>
                <a:lnTo>
                  <a:pt x="1400" y="1400"/>
                </a:lnTo>
                <a:close/>
              </a:path>
              <a:path fill="darken" w="28736" h="21600">
                <a:moveTo>
                  <a:pt x="28736" y="0"/>
                </a:moveTo>
                <a:lnTo>
                  <a:pt x="28736" y="21600"/>
                </a:lnTo>
                <a:lnTo>
                  <a:pt x="27336" y="20200"/>
                </a:lnTo>
                <a:lnTo>
                  <a:pt x="27336" y="1400"/>
                </a:lnTo>
                <a:close/>
              </a:path>
              <a:path fill="darkenLess" w="28736" h="21600">
                <a:moveTo>
                  <a:pt x="28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36" y="20200"/>
                </a:lnTo>
                <a:close/>
              </a:path>
              <a:path fill="lighten" w="28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36" h="21600">
                <a:moveTo>
                  <a:pt x="7362" y="10800"/>
                </a:moveTo>
                <a:lnTo>
                  <a:pt x="21375" y="3794"/>
                </a:lnTo>
                <a:lnTo>
                  <a:pt x="2137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708360" y="57340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5 – 30 мин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971640" y="692280"/>
            <a:ext cx="77770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воя игр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476360" y="3429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огда нужно класть соль при варке мяс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8">
            <a:hlinkClick r:id="rId2" action="ppaction://hlinksldjump"/>
          </p:cNvPr>
          <p:cNvSpPr/>
          <p:nvPr/>
        </p:nvSpPr>
        <p:spPr>
          <a:xfrm>
            <a:off x="25092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303640" y="5877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ерез 15 минут после закип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chud026"/>
          <p:cNvPicPr/>
          <p:nvPr/>
        </p:nvPicPr>
        <p:blipFill>
          <a:blip r:embed="rId3"/>
          <a:stretch/>
        </p:blipFill>
        <p:spPr>
          <a:xfrm>
            <a:off x="7174080" y="333360"/>
            <a:ext cx="1739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79280" y="404640"/>
            <a:ext cx="720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971640" y="476280"/>
            <a:ext cx="770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Как называется жарка в большом количестве жир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>
            <a:hlinkClick r:id="rId2" action="ppaction://hlinksldjump"/>
          </p:cNvPr>
          <p:cNvSpPr/>
          <p:nvPr/>
        </p:nvSpPr>
        <p:spPr>
          <a:xfrm>
            <a:off x="324000" y="595008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10800"/>
                </a:moveTo>
                <a:lnTo>
                  <a:pt x="20183" y="3794"/>
                </a:lnTo>
                <a:lnTo>
                  <a:pt x="2018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995640" y="5445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Monotype Corsiva"/>
              </a:rPr>
              <a:t>Фритю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250920" y="260280"/>
            <a:ext cx="43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971640" y="620640"/>
            <a:ext cx="792144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Arial"/>
              </a:rPr>
              <a:t>Где самые вкусные спагетт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9280" y="5661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Georgia"/>
              </a:rPr>
              <a:t>Ита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79280" y="333360"/>
            <a:ext cx="863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00000" y="1125360"/>
            <a:ext cx="784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cc"/>
                </a:solidFill>
                <a:latin typeface="Arial"/>
              </a:rPr>
              <a:t>Где лучше всего готовят плов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>
            <a:hlinkClick r:id="rId1" action="ppaction://hlinksldjump"/>
          </p:cNvPr>
          <p:cNvSpPr/>
          <p:nvPr/>
        </p:nvSpPr>
        <p:spPr>
          <a:xfrm>
            <a:off x="250920" y="5805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51280" y="5661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Georgia"/>
              </a:rPr>
              <a:t>Узбекист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250920" y="476280"/>
            <a:ext cx="360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71640" y="62064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cow"/>
          <p:cNvPicPr/>
          <p:nvPr/>
        </p:nvPicPr>
        <p:blipFill>
          <a:blip r:embed="rId1"/>
          <a:stretch/>
        </p:blipFill>
        <p:spPr>
          <a:xfrm>
            <a:off x="3924360" y="299736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2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3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476280"/>
            <a:ext cx="360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71640" y="0"/>
            <a:ext cx="817236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ойдем копать карто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ыграй нам на гармош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отовь к обеду л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братцы мне по силе, откажусь теперь едва 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1">
            <a:hlinkClick r:id="rId1" action="ppaction://hlinksldjump"/>
          </p:cNvPr>
          <p:cNvSpPr/>
          <p:nvPr/>
        </p:nvSpPr>
        <p:spPr>
          <a:xfrm>
            <a:off x="1792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просы –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сюрпризы</a:t>
            </a: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частлив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получает число бал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казанных в данном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счастн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- команда штрафуется на указ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количеств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т в мешке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вопрос можно отдать команде – соперн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прос-аукцио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одна команда может перекупить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ругой вопрос, назначив более высокую це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воя игр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имеет право уменьшить или увел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чить число баллов з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узыкальный экспромт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может взять помощ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2720" y="260280"/>
            <a:ext cx="41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71640" y="765000"/>
            <a:ext cx="77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cc"/>
                </a:solidFill>
                <a:latin typeface="Arial"/>
              </a:rPr>
              <a:t>В какой стране ты бы заказал гуляш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8">
            <a:hlinkClick r:id="rId1" action="ppaction://hlinksldjump"/>
          </p:cNvPr>
          <p:cNvSpPr/>
          <p:nvPr/>
        </p:nvSpPr>
        <p:spPr>
          <a:xfrm>
            <a:off x="324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995640" y="551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Georgia"/>
              </a:rPr>
              <a:t>Венг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250920" y="476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0920" y="333360"/>
            <a:ext cx="64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Ю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00000" y="620640"/>
            <a:ext cx="77043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Arial"/>
              </a:rPr>
              <a:t>В какой стране любят устриц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8">
            <a:hlinkClick r:id="rId1" action="ppaction://hlinksldjump"/>
          </p:cNvPr>
          <p:cNvSpPr/>
          <p:nvPr/>
        </p:nvSpPr>
        <p:spPr>
          <a:xfrm>
            <a:off x="250920" y="587700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780000" y="558972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Georgia"/>
              </a:rPr>
              <a:t>Фран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3" descr="28"/>
          <p:cNvPicPr/>
          <p:nvPr/>
        </p:nvPicPr>
        <p:blipFill>
          <a:blip r:embed="rId2"/>
          <a:stretch/>
        </p:blipFill>
        <p:spPr>
          <a:xfrm>
            <a:off x="6854760" y="3573360"/>
            <a:ext cx="1986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118"/>
          <p:cNvSpPr/>
          <p:nvPr/>
        </p:nvSpPr>
        <p:spPr>
          <a:xfrm>
            <a:off x="1692360" y="0"/>
            <a:ext cx="5472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9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20">
            <a:hlinkClick r:id="" action="ppaction://hlinkshowjump?jump=nextslide"/>
          </p:cNvPr>
          <p:cNvSpPr/>
          <p:nvPr/>
        </p:nvSpPr>
        <p:spPr>
          <a:xfrm>
            <a:off x="179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1"/>
          <p:cNvSpPr/>
          <p:nvPr/>
        </p:nvSpPr>
        <p:spPr>
          <a:xfrm>
            <a:off x="539640" y="2492280"/>
            <a:ext cx="813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00cc"/>
                </a:solidFill>
                <a:latin typeface="Comic Sans MS"/>
              </a:rPr>
              <a:t>Хлеб – батюшка, а              водица матушк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говор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29" descr="blest159"/>
          <p:cNvPicPr/>
          <p:nvPr/>
        </p:nvPicPr>
        <p:blipFill>
          <a:blip r:embed="rId1"/>
          <a:stretch/>
        </p:blipFill>
        <p:spPr>
          <a:xfrm>
            <a:off x="3780000" y="4581360"/>
            <a:ext cx="2128680" cy="193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87" dur="1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88" dur="150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293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Инфекционные болезни, передающиеся через пищ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тание и болезн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Здоровье из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199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00">
            <a:hlinkClick r:id="rId16" action="ppaction://hlinksldjump"/>
          </p:cNvPr>
          <p:cNvSpPr/>
          <p:nvPr/>
        </p:nvSpPr>
        <p:spPr>
          <a:xfrm>
            <a:off x="250920" y="6093000"/>
            <a:ext cx="649080" cy="576000"/>
          </a:xfrm>
          <a:prstGeom prst="pi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1116000" y="26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5092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Самое простое правило избежать «болезней грязных рук» - эт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9">
            <a:hlinkClick r:id="rId2" action="ppaction://hlinksldjump"/>
          </p:cNvPr>
          <p:cNvSpPr/>
          <p:nvPr/>
        </p:nvSpPr>
        <p:spPr>
          <a:xfrm>
            <a:off x="25092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7301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5456" y="3821"/>
                </a:lnTo>
                <a:lnTo>
                  <a:pt x="5456" y="17834"/>
                </a:lnTo>
                <a:lnTo>
                  <a:pt x="3794" y="1783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627280" y="5734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Мытьё рук перед е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268280"/>
            <a:ext cx="89647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Именно такой водой рекомендуется мыть овощи и фрук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8">
            <a:hlinkClick r:id="rId2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448000" y="5950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Кипяченой во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4500720" y="5950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24000" y="333360"/>
            <a:ext cx="82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95280" y="1197000"/>
            <a:ext cx="8424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9" descr="baby94"/>
          <p:cNvPicPr/>
          <p:nvPr/>
        </p:nvPicPr>
        <p:blipFill>
          <a:blip r:embed="rId3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24000" y="404640"/>
            <a:ext cx="835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928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Почему не следует покупать еду у продавцов торгующих «с рук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>
            <a:hlinkClick r:id="rId2" action="ppaction://hlinksldjump"/>
          </p:cNvPr>
          <p:cNvSpPr/>
          <p:nvPr/>
        </p:nvSpPr>
        <p:spPr>
          <a:xfrm>
            <a:off x="2509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476360" y="472428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и приготовлении её возможны нарушения санитарных правил, что может привести к пищевым отравлениям и кишечным заболев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11280" y="105264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от в меш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Целительные атом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68360" y="4581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Недостаток этого элемента в организме способствует возникновению кари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8">
            <a:hlinkClick r:id="rId2" action="ppaction://hlinksldjump"/>
          </p:cNvPr>
          <p:cNvSpPr/>
          <p:nvPr/>
        </p:nvSpPr>
        <p:spPr>
          <a:xfrm>
            <a:off x="25092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0013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8168" y="3794"/>
                </a:lnTo>
                <a:lnTo>
                  <a:pt x="8168" y="17806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484360" y="5877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ahoma"/>
              </a:rPr>
              <a:t>Ф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pic"/>
          <p:cNvPicPr/>
          <p:nvPr/>
        </p:nvPicPr>
        <p:blipFill>
          <a:blip r:embed="rId3"/>
          <a:stretch/>
        </p:blipFill>
        <p:spPr>
          <a:xfrm>
            <a:off x="395280" y="765000"/>
            <a:ext cx="1952640" cy="155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5"/>
          <p:cNvSpPr/>
          <p:nvPr/>
        </p:nvSpPr>
        <p:spPr>
          <a:xfrm>
            <a:off x="250920" y="692280"/>
            <a:ext cx="72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619280" y="692280"/>
            <a:ext cx="62658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ia"/>
          <p:cNvPicPr/>
          <p:nvPr/>
        </p:nvPicPr>
        <p:blipFill>
          <a:blip r:embed="rId1"/>
          <a:stretch/>
        </p:blipFill>
        <p:spPr>
          <a:xfrm>
            <a:off x="3419640" y="4292640"/>
            <a:ext cx="2374560" cy="2293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10" name="Text Box 13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4">
            <a:hlinkClick r:id="rId2" action="ppaction://hlinksldjump"/>
          </p:cNvPr>
          <p:cNvSpPr/>
          <p:nvPr/>
        </p:nvSpPr>
        <p:spPr>
          <a:xfrm>
            <a:off x="539640" y="5805360"/>
            <a:ext cx="719280" cy="576360"/>
          </a:xfrm>
          <a:prstGeom prst="leftArrow">
            <a:avLst>
              <a:gd name="adj1" fmla="val 50000"/>
              <a:gd name="adj2" fmla="val 31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1835280" y="0"/>
            <a:ext cx="532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395280" y="2852640"/>
            <a:ext cx="835344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«Заботу о пище и уходе за телом нужно отнести к области здоровья и поддер-жания сил, а не к области наслаждения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(Цицеро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8" descr="93"/>
          <p:cNvPicPr/>
          <p:nvPr/>
        </p:nvPicPr>
        <p:blipFill>
          <a:blip r:embed="rId1"/>
          <a:stretch/>
        </p:blipFill>
        <p:spPr>
          <a:xfrm>
            <a:off x="395280" y="549360"/>
            <a:ext cx="2952720" cy="247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250920" y="620640"/>
            <a:ext cx="1081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404640"/>
            <a:ext cx="777564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Правильный режим питания для школьников предусматривает приём пищи не реже, чем через каждые 3–4 часа, но не чаще, чем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340000" y="602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Lucida Console"/>
              </a:rPr>
              <a:t>Через 1 – 2 ч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250920" y="692280"/>
            <a:ext cx="50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755640" y="549360"/>
            <a:ext cx="820908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При недостатке в организме этого элемента наступает малокровие (анемия). Назовите элемен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132000" y="5805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Желез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395280" y="620640"/>
            <a:ext cx="57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26920" y="620640"/>
            <a:ext cx="831708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При нерегулярном питании выделяется желудочный сок с повышенной кислотность, что приводит к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1150920" y="602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 заболеванию язвой желуд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10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324000" y="620640"/>
            <a:ext cx="647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84360" y="981000"/>
            <a:ext cx="8459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кая трава помогает от 99 болезне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6836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476360" y="57340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omic Sans MS"/>
              </a:rPr>
              <a:t>Звероб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0" descr="74"/>
          <p:cNvPicPr/>
          <p:nvPr/>
        </p:nvPicPr>
        <p:blipFill>
          <a:blip r:embed="rId1"/>
          <a:stretch/>
        </p:blipFill>
        <p:spPr>
          <a:xfrm>
            <a:off x="6877080" y="549360"/>
            <a:ext cx="2016000" cy="1914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1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2">
            <a:hlinkClick r:id="rId2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250920" y="62064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549360"/>
            <a:ext cx="7489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Как используют плоды черёмухи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95280" y="5805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>
            <a:hlinkClick r:id="rId2" action="ppaction://hlinksldjump"/>
          </p:cNvPr>
          <p:cNvSpPr/>
          <p:nvPr/>
        </p:nvSpPr>
        <p:spPr>
          <a:xfrm>
            <a:off x="250920" y="5950080"/>
            <a:ext cx="576000" cy="28728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755640" y="5661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При диар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620640"/>
            <a:ext cx="7561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79280" y="6165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502920" cy="289080"/>
          </a:xfrm>
          <a:prstGeom prst="leftArrow">
            <a:avLst>
              <a:gd name="adj1" fmla="val 50000"/>
              <a:gd name="adj2" fmla="val 43493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9" descr="135"/>
          <p:cNvPicPr/>
          <p:nvPr/>
        </p:nvPicPr>
        <p:blipFill>
          <a:blip r:embed="rId3"/>
          <a:stretch/>
        </p:blipFill>
        <p:spPr>
          <a:xfrm>
            <a:off x="5859360" y="2637000"/>
            <a:ext cx="328464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8" dur="1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99" dur="1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50920" y="620640"/>
            <a:ext cx="64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4360" y="549360"/>
            <a:ext cx="8281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Как используют липовый цвет в народ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50920" y="602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5">
            <a:hlinkClick r:id="rId2" action="ppaction://hlinksldjump"/>
          </p:cNvPr>
          <p:cNvSpPr/>
          <p:nvPr/>
        </p:nvSpPr>
        <p:spPr>
          <a:xfrm>
            <a:off x="324000" y="6237360"/>
            <a:ext cx="502920" cy="216000"/>
          </a:xfrm>
          <a:prstGeom prst="leftArrow">
            <a:avLst>
              <a:gd name="adj1" fmla="val 50000"/>
              <a:gd name="adj2" fmla="val 5820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619280" y="5805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Как чай от простуды и каш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24000" y="549360"/>
            <a:ext cx="502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971640" y="692280"/>
            <a:ext cx="7777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a219"/>
                </a:solidFill>
                <a:latin typeface="Arial"/>
              </a:rPr>
              <a:t>«Домашняя апте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755640" y="501336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от цветок залечивает ра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6">
            <a:hlinkClick r:id="rId2" action="ppaction://hlinksldjump"/>
          </p:cNvPr>
          <p:cNvSpPr/>
          <p:nvPr/>
        </p:nvSpPr>
        <p:spPr>
          <a:xfrm>
            <a:off x="179280" y="6308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059280" y="5734080"/>
            <a:ext cx="38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 л о 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9" descr="1108"/>
          <p:cNvPicPr/>
          <p:nvPr/>
        </p:nvPicPr>
        <p:blipFill>
          <a:blip r:embed="rId3"/>
          <a:stretch/>
        </p:blipFill>
        <p:spPr>
          <a:xfrm>
            <a:off x="6738840" y="476280"/>
            <a:ext cx="2208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7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50920" y="404640"/>
            <a:ext cx="792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900000" y="549360"/>
            <a:ext cx="77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При каких заболеваниях используют кору дуб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5092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24000" y="6093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431640" cy="21600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900000" y="472428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При воспалительных заболеваниях слизистой оболочки полости рта, зева, глотки, при стоматитах и кровоточивости дёс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1835280" y="0"/>
            <a:ext cx="6121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58920" y="2060640"/>
            <a:ext cx="705816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Движение – кладовая жизн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                                   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Плута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7" descr="baby134"/>
          <p:cNvPicPr/>
          <p:nvPr/>
        </p:nvPicPr>
        <p:blipFill>
          <a:blip r:embed="rId2"/>
          <a:stretch/>
        </p:blipFill>
        <p:spPr>
          <a:xfrm>
            <a:off x="3271680" y="3429000"/>
            <a:ext cx="260208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1080"/>
                <a:gridCol w="1150920"/>
                <a:gridCol w="1225440"/>
                <a:gridCol w="12589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3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Загад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збука      кулинар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ациональные блю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4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prstGeom prst="pie">
            <a:avLst/>
          </a:prstGeom>
          <a:solidFill>
            <a:srgbClr val="aaf4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drawingml/2006/table">
            <a:tbl>
              <a:tblPr/>
              <a:tblGrid>
                <a:gridCol w="2627280"/>
                <a:gridCol w="1440000"/>
                <a:gridCol w="1368360"/>
                <a:gridCol w="1224000"/>
                <a:gridCol w="1297080"/>
                <a:gridCol w="1187280"/>
              </a:tblGrid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з ист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лимпийск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г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пор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Физкульт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ину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Text Box 113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14">
            <a:hlinkClick r:id="rId17" action="ppaction://hlinksldjump"/>
          </p:cNvPr>
          <p:cNvSpPr/>
          <p:nvPr/>
        </p:nvSpPr>
        <p:spPr>
          <a:xfrm>
            <a:off x="179280" y="6093000"/>
            <a:ext cx="611280" cy="580680"/>
          </a:xfrm>
          <a:prstGeom prst="pi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179280" y="26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WordArt 8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1332000" y="1989000"/>
            <a:ext cx="66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ак назывался олимпийский чемпион в древно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4284720" y="5445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Олимпио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250920" y="587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3"/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179280" y="47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WordArt 7"/>
          <p:cNvSpPr txBox="1"/>
          <p:nvPr/>
        </p:nvSpPr>
        <p:spPr>
          <a:xfrm rot="5400000">
            <a:off x="-2376360" y="2816280"/>
            <a:ext cx="547200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1619280" y="260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1476360" y="227664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Что символизируют пять переплетённых колец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547640" y="5516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Arial"/>
              </a:rPr>
              <a:t>Объединение в олимпийское движение пяти контин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324000" y="60213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2"/>
          <p:cNvSpPr/>
          <p:nvPr/>
        </p:nvSpPr>
        <p:spPr>
          <a:xfrm>
            <a:off x="179280" y="6093000"/>
            <a:ext cx="647640" cy="504720"/>
          </a:xfrm>
          <a:custGeom>
            <a:avLst/>
            <a:gdLst>
              <a:gd name="textAreaLeft" fmla="*/ 147600 w 647640"/>
              <a:gd name="textAreaRight" fmla="*/ 500040 w 64764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3"/>
          <p:cNvSpPr txBox="1"/>
          <p:nvPr/>
        </p:nvSpPr>
        <p:spPr>
          <a:xfrm rot="5400000">
            <a:off x="-2320920" y="2760840"/>
            <a:ext cx="540072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332000" y="4046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1763640" y="2349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лимпийский деви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124000" y="522936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Arial"/>
              </a:rPr>
              <a:t>Быстрее, выше, сильне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2400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250920" y="6021360"/>
            <a:ext cx="649080" cy="57636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3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90000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00000" y="1844640"/>
            <a:ext cx="6912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Своя иг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де и как зажигается олимпийский огон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403280" y="5516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В Греции в Олимпии от солнечных луч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50920" y="595008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0" descr="solnze"/>
          <p:cNvPicPr/>
          <p:nvPr/>
        </p:nvPicPr>
        <p:blipFill>
          <a:blip r:embed="rId2"/>
          <a:stretch/>
        </p:blipFill>
        <p:spPr>
          <a:xfrm>
            <a:off x="6516720" y="333360"/>
            <a:ext cx="262728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7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олимпийски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258920" y="333360"/>
            <a:ext cx="7345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Что такое «стадий»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692360" y="4005360"/>
            <a:ext cx="669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a219"/>
                </a:solidFill>
                <a:latin typeface="Arial"/>
              </a:rPr>
              <a:t>Бег на короткую дистанцию в Древней Греции, равнявшийся 192 м 27 с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WordArt 8"/>
          <p:cNvSpPr txBox="1"/>
          <p:nvPr/>
        </p:nvSpPr>
        <p:spPr>
          <a:xfrm rot="5400000">
            <a:off x="-2124360" y="2636640"/>
            <a:ext cx="511164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1116000" y="476280"/>
            <a:ext cx="741672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Командная спортивная игра. Проводится на поле размером 61*50, площадка огорожена бортами высотой 100-122 см. Одновременно на площадке в составе каждой команды может находиться шесть игроков. Смена игроков проводится в любое время и неограниченно числ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3564000" y="551664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хокк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95280" y="5805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WordArt 4"/>
          <p:cNvSpPr txBox="1"/>
          <p:nvPr/>
        </p:nvSpPr>
        <p:spPr>
          <a:xfrm rot="5400000">
            <a:off x="-2124720" y="270864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476360" y="333360"/>
            <a:ext cx="698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 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Кот в мешк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«Боевое искусств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95280" y="5877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7">
            <a:hlinkClick r:id="" action="ppaction://hlinkshowjump?jump=nextslide"/>
          </p:cNvPr>
          <p:cNvSpPr/>
          <p:nvPr/>
        </p:nvSpPr>
        <p:spPr>
          <a:xfrm>
            <a:off x="2509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9" descr="baby20"/>
          <p:cNvPicPr/>
          <p:nvPr/>
        </p:nvPicPr>
        <p:blipFill>
          <a:blip r:embed="rId2"/>
          <a:stretch/>
        </p:blipFill>
        <p:spPr>
          <a:xfrm>
            <a:off x="3440160" y="3429000"/>
            <a:ext cx="22813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4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692360" y="907920"/>
            <a:ext cx="619272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Одно из толкований названия этого вида спорта – «пустая ру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3924360" y="5661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rebuchet MS"/>
              </a:rPr>
              <a:t>Карат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395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79280" y="6165720"/>
            <a:ext cx="720720" cy="503280"/>
          </a:xfrm>
          <a:custGeom>
            <a:avLst/>
            <a:gdLst>
              <a:gd name="textAreaLeft" fmla="*/ 164520 w 720720"/>
              <a:gd name="textAreaRight" fmla="*/ 556200 w 720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WordArt 3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476360" y="549360"/>
            <a:ext cx="655164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Современное зимнее двоеборье в переводе с греческого «двойное состязани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050920" y="580536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utami"/>
              </a:rPr>
              <a:t>Биатл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79280" y="580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179280" y="6165720"/>
            <a:ext cx="505080" cy="505080"/>
          </a:xfrm>
          <a:custGeom>
            <a:avLst/>
            <a:gdLst>
              <a:gd name="textAreaLeft" fmla="*/ 115200 w 505080"/>
              <a:gd name="textAreaRight" fmla="*/ 389880 w 50508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8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332000" y="549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Сладкий камен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в воде тает 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55640" y="522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&lt;&lt;&lt;&lt;&lt;&lt;&lt;&lt;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24000" y="40464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16436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WordArt 4"/>
          <p:cNvSpPr txBox="1"/>
          <p:nvPr/>
        </p:nvSpPr>
        <p:spPr>
          <a:xfrm rot="5400000">
            <a:off x="-2089080" y="267300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116000" y="549360"/>
            <a:ext cx="72723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Спортивная игра с мячом, напоминающая русскую лапту. Её появление относится к началу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века. В игре принимают участие по девять человек в каждой коман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3276720" y="544500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Бейс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468360" y="59500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WordArt 4"/>
          <p:cNvSpPr txBox="1"/>
          <p:nvPr/>
        </p:nvSpPr>
        <p:spPr>
          <a:xfrm rot="5400000">
            <a:off x="-2196360" y="2709000"/>
            <a:ext cx="5183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258920" y="476280"/>
            <a:ext cx="741672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В переводе с греческого название этого вида спорта означает «хожу на цыпочках, лезу вверх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2843280" y="537372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Monotype Corsiva"/>
              </a:rPr>
              <a:t>Акроба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9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042920" y="260280"/>
            <a:ext cx="785016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ы писали, мы писали – наши пальчики уст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ы немножко отдохнём и опять писать начнём.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ля чего предназначены эти сло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1042920" y="6093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Упражнения для расслабления мышц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258920" y="476280"/>
            <a:ext cx="734544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Вопрос-аукцио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Arial"/>
              </a:rPr>
              <a:t>В здоровом теле здоровый ду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971640" y="4797360"/>
            <a:ext cx="788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«Снятие напряжения и усталости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спомни и проведи с болельщиками физкультминут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4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332000" y="1052640"/>
            <a:ext cx="741672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Спор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324000" y="59500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9">
            <a:hlinkClick r:id="" action="ppaction://hlinkshowjump?jump=nextslide"/>
          </p:cNvPr>
          <p:cNvSpPr/>
          <p:nvPr/>
        </p:nvSpPr>
        <p:spPr>
          <a:xfrm>
            <a:off x="17928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36" h="21600">
                <a:moveTo>
                  <a:pt x="15523" y="14281"/>
                </a:moveTo>
                <a:lnTo>
                  <a:pt x="15523" y="12323"/>
                </a:lnTo>
                <a:cubicBezTo>
                  <a:pt x="15523" y="11496"/>
                  <a:pt x="15854" y="10800"/>
                  <a:pt x="16455" y="10800"/>
                </a:cubicBezTo>
                <a:cubicBezTo>
                  <a:pt x="17586" y="10800"/>
                  <a:pt x="18483" y="9434"/>
                  <a:pt x="18483" y="7849"/>
                </a:cubicBezTo>
                <a:cubicBezTo>
                  <a:pt x="18483" y="5534"/>
                  <a:pt x="16629" y="3794"/>
                  <a:pt x="14418" y="3794"/>
                </a:cubicBezTo>
                <a:cubicBezTo>
                  <a:pt x="12207" y="3794"/>
                  <a:pt x="10536" y="5534"/>
                  <a:pt x="10536" y="7849"/>
                </a:cubicBezTo>
                <a:lnTo>
                  <a:pt x="12390" y="7849"/>
                </a:lnTo>
                <a:cubicBezTo>
                  <a:pt x="12390" y="6709"/>
                  <a:pt x="13313" y="5821"/>
                  <a:pt x="14418" y="5821"/>
                </a:cubicBezTo>
                <a:cubicBezTo>
                  <a:pt x="15523" y="5821"/>
                  <a:pt x="16455" y="6709"/>
                  <a:pt x="16455" y="7849"/>
                </a:cubicBezTo>
                <a:cubicBezTo>
                  <a:pt x="16455" y="8589"/>
                  <a:pt x="15985" y="9320"/>
                  <a:pt x="15523" y="9320"/>
                </a:cubicBezTo>
                <a:cubicBezTo>
                  <a:pt x="14418" y="9320"/>
                  <a:pt x="13313" y="10800"/>
                  <a:pt x="13313" y="12323"/>
                </a:cubicBezTo>
                <a:lnTo>
                  <a:pt x="13313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1403280" y="404640"/>
            <a:ext cx="7561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венит в ушах лихая музыка ата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Точней отдай на клюшку пас, сильней уда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И всё в порядке, если только на площад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еликолепная пятёрка и врата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уровый бой ведёт ледовая дружи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ы верим мужеству отчаянных пар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 хоккей играют настоящие мужчи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Трус не играет в хокк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Трус не играет в хокк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WordArt 4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1403280" y="404640"/>
            <a:ext cx="7561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99"/>
                </a:solidFill>
                <a:latin typeface="Arial"/>
              </a:rPr>
              <a:t>Упражнение развивающее силу ру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1763640" y="4941720"/>
            <a:ext cx="6480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Отжим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ыполни 5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WordArt 4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179280" y="6165720"/>
            <a:ext cx="50508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332000" y="907920"/>
            <a:ext cx="72723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Это одно из чудес света и упражнение в акробат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900000" y="4724280"/>
            <a:ext cx="80280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Пирамид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Возьми друзей из зала (6 человек) и построй её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250920" y="1125360"/>
            <a:ext cx="8640720" cy="314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Georgia"/>
              </a:rPr>
              <a:t>Когда нет здоровья, молчит мудрость, не может расцвести искусство, не играют силы, бесполезно богатство и бессилен разу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6443640" y="4941720"/>
            <a:ext cx="230508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Georgia"/>
              </a:rPr>
              <a:t>Герод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7" descr="blest11"/>
          <p:cNvPicPr/>
          <p:nvPr/>
        </p:nvPicPr>
        <p:blipFill>
          <a:blip r:embed="rId1"/>
          <a:stretch/>
        </p:blipFill>
        <p:spPr>
          <a:xfrm>
            <a:off x="6877080" y="3532320"/>
            <a:ext cx="1727280" cy="1542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blest40"/>
          <p:cNvPicPr/>
          <p:nvPr/>
        </p:nvPicPr>
        <p:blipFill>
          <a:blip r:embed="rId2"/>
          <a:stretch/>
        </p:blipFill>
        <p:spPr>
          <a:xfrm rot="2768400">
            <a:off x="-142560" y="3931920"/>
            <a:ext cx="2712960" cy="24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5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3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6" descr="blest47"/>
          <p:cNvPicPr/>
          <p:nvPr/>
        </p:nvPicPr>
        <p:blipFill>
          <a:blip r:embed="rId2"/>
          <a:stretch/>
        </p:blipFill>
        <p:spPr>
          <a:xfrm>
            <a:off x="611280" y="189000"/>
            <a:ext cx="6337080" cy="571500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7"/>
          <p:cNvSpPr/>
          <p:nvPr/>
        </p:nvSpPr>
        <p:spPr>
          <a:xfrm>
            <a:off x="3780000" y="5877000"/>
            <a:ext cx="129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WordArt 8"/>
          <p:cNvSpPr txBox="1"/>
          <p:nvPr/>
        </p:nvSpPr>
        <p:spPr>
          <a:xfrm>
            <a:off x="395280" y="3068640"/>
            <a:ext cx="83534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победой!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539640" y="907920"/>
            <a:ext cx="7993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99"/>
                </a:solidFill>
                <a:latin typeface="Arial"/>
              </a:rPr>
              <a:t>Жидко, а не вода, бело, а не снег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4000" y="404640"/>
            <a:ext cx="57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948360" y="5661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оло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WordArt 4"/>
          <p:cNvSpPr txBox="1"/>
          <p:nvPr/>
        </p:nvSpPr>
        <p:spPr>
          <a:xfrm>
            <a:off x="684360" y="907920"/>
            <a:ext cx="676728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1" name="Picture 13" descr="236"/>
          <p:cNvPicPr/>
          <p:nvPr/>
        </p:nvPicPr>
        <p:blipFill>
          <a:blip r:embed="rId2"/>
          <a:stretch/>
        </p:blipFill>
        <p:spPr>
          <a:xfrm rot="21051000">
            <a:off x="608040" y="3117600"/>
            <a:ext cx="3168720" cy="2795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4" descr="238"/>
          <p:cNvPicPr/>
          <p:nvPr/>
        </p:nvPicPr>
        <p:blipFill>
          <a:blip r:embed="rId3"/>
          <a:stretch/>
        </p:blipFill>
        <p:spPr>
          <a:xfrm rot="2317800">
            <a:off x="5762160" y="3013200"/>
            <a:ext cx="240660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539640" y="1125360"/>
            <a:ext cx="828036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балло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Золотист он и уса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В ста карманах сто ребят.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>
            <a:hlinkClick r:id="rId1" action="ppaction://hlinksldjump"/>
          </p:cNvPr>
          <p:cNvSpPr/>
          <p:nvPr/>
        </p:nvSpPr>
        <p:spPr>
          <a:xfrm>
            <a:off x="1187280" y="537372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79280" y="260280"/>
            <a:ext cx="72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6732720" y="5734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ол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971640" y="907920"/>
            <a:ext cx="7200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Arial"/>
              </a:rPr>
              <a:t>В воде родится, воды боитс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6">
            <a:hlinkClick r:id="rId1" action="ppaction://hlinksldjump"/>
          </p:cNvPr>
          <p:cNvSpPr/>
          <p:nvPr/>
        </p:nvSpPr>
        <p:spPr>
          <a:xfrm>
            <a:off x="179280" y="595008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6176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24000" y="40464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7093080" y="5805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468360" y="549360"/>
            <a:ext cx="82090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«Аптека на грядке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24000" y="33336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8m5"/>
          <p:cNvPicPr/>
          <p:nvPr/>
        </p:nvPicPr>
        <p:blipFill>
          <a:blip r:embed="rId1"/>
          <a:stretch/>
        </p:blipFill>
        <p:spPr>
          <a:xfrm>
            <a:off x="7236000" y="260280"/>
            <a:ext cx="16729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JOel</dc:creator>
  <dc:description/>
  <dc:language>en-US</dc:language>
  <cp:lastModifiedBy>Кристина</cp:lastModifiedBy>
  <dcterms:modified xsi:type="dcterms:W3CDTF">2009-03-07T10:45:17Z</dcterms:modified>
  <cp:revision>66</cp:revision>
  <dc:subject/>
  <dc:title>Слайд 1</dc:title>
</cp:coreProperties>
</file>